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8F6-5DC6-4175-8C8E-02835C34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B5BD-57E8-4FAB-821A-4BCFC338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87B3-BDE5-4081-942E-A26CE0FC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28D7-A1CE-46BF-9A13-026E478D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766-32B5-4F20-A0D8-D7123B19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9F3B-0F3C-4419-A47F-56F91B76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7F5C-104D-4800-9E73-5D0DB64C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AF8-4AE1-44C8-BBF9-4EA3C46A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0DBB-C280-41A2-914B-74A8E38A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AC1-A453-43D7-962A-C9318A4D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5328-62B8-461E-9F37-C332CEB6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483-38ED-4F0B-A392-36C05EBB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3DE6-AB7D-4905-A701-0D57DFB77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em720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55344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n720" descr=""/>
          <p:cNvPicPr/>
          <p:nvPr/>
        </p:nvPicPr>
        <p:blipFill>
          <a:blip r:embed="rId1"/>
          <a:stretch/>
        </p:blipFill>
        <p:spPr>
          <a:xfrm>
            <a:off x="2057400" y="0"/>
            <a:ext cx="2641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00:27:21Z</dcterms:created>
  <dc:creator>geoff lyon</dc:creator>
  <dc:description/>
  <dc:language>en-US</dc:language>
  <cp:lastModifiedBy>geoff lyon</cp:lastModifiedBy>
  <dcterms:modified xsi:type="dcterms:W3CDTF">2001-10-13T00:27:54Z</dcterms:modified>
  <cp:revision>1</cp:revision>
  <dc:subject/>
  <dc:title>PowerPoint Presentation</dc:title>
</cp:coreProperties>
</file>